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8F8-7E09-4F97-8EA3-00CF3B1B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A82-DC1E-4028-8EB9-27360032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E1B-407A-41F0-9111-BA1BD462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CE3-49B4-49D1-A417-BC53F827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AB3-91B5-4F34-9BF8-884AA0D2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0FE-F66B-4A1A-A9E9-920F7A58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E2D-FD17-4809-BCBA-B9073C72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B28-181D-4BAB-A080-12E246AC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7EE-9E2D-4401-AE06-F032077E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A4C-85BB-4DA5-AF45-D6ED8946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D84-ECAB-4E86-A6F6-C5D72485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259-77B2-42EC-BDE7-8AD6E70B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EEDE-E0C1-40ED-9E84-90985ECCD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/15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items for 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Vipul’s slide for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explain with 2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360" y="380880"/>
            <a:ext cx="168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09960" y="380880"/>
            <a:ext cx="3091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Substance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685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98600" y="3808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66680" y="914400"/>
            <a:ext cx="47246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5760" y="14479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consum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3840" y="2057400"/>
            <a:ext cx="1978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u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Me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7440" y="3809880"/>
            <a:ext cx="1104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starta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590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6840" y="30481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1920" y="1905120"/>
            <a:ext cx="15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dose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5640" y="2362320"/>
            <a:ext cx="49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16600" y="2362320"/>
            <a:ext cx="279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80920" y="914400"/>
            <a:ext cx="2210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33680" y="2209680"/>
            <a:ext cx="596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7040" y="4495680"/>
            <a:ext cx="1950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Control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88960" y="13716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route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29200" y="914400"/>
            <a:ext cx="9907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914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360" y="123048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rate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914400"/>
            <a:ext cx="25146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2280" y="358128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6800" y="6031080"/>
            <a:ext cx="787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590920" y="502920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7120" y="526896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040" y="6019920"/>
            <a:ext cx="695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029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1680" y="549756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3400" y="4495680"/>
            <a:ext cx="1950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Control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3160" y="6031080"/>
            <a:ext cx="92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rt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866920" y="502920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3840" y="526896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98600" y="6019920"/>
            <a:ext cx="1093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3/2005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502920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48400" y="549756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914400"/>
            <a:ext cx="4572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2840" y="3429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20" y="251460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3657600"/>
            <a:ext cx="1066680" cy="5335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572000"/>
            <a:ext cx="1523880" cy="6858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56272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251460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0" y="403848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62720" y="3747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62720" y="2895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038480"/>
            <a:ext cx="106704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6272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038480"/>
            <a:ext cx="106704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qualifiers from “Lab Observ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FillerOrder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the “Vital Signs” class and make all its siblings subClassOf OWL: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hasData property to all the vital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“item” properties and made them more meaning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4-14T22:04:16Z</dcterms:modified>
  <cp:revision>85</cp:revision>
  <dc:subject/>
  <dc:title>Slide 1</dc:title>
</cp:coreProperties>
</file>